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4DA-4CE3-431C-A96C-E1E28CF3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2E8-D7D3-4CA1-9C8E-1D91B5B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870-1EB3-49C5-8A45-77BFCF72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6BF-31C1-45F7-A4B8-0F3C2606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A594-3226-45DA-8265-FF0DCF3A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B117-A85A-449E-992C-1F0D63D5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0B4A-59D0-420B-95DF-2C0CE88F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CF80-8B21-4B35-A4DE-30F50788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B6F1-0FF8-4EB3-B909-BAB6CD61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2178-3E7D-4C92-B556-F8FCBEBB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5B84-25B2-4780-AF2B-644BA9B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B39-51CE-42B2-BAE5-04FA1059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225D-75BA-46D7-8D9B-14E33C19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EDC2-6088-462A-9CF5-70D265BF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65BB-ABB8-41A6-A1A9-ABAD766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7517-7616-4BAF-9932-3BDF9EEC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4A11-ED4B-4E7E-986C-BAEC3DE3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B0E-3219-44A6-AA0A-2E8E5506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D91-A49C-4289-9068-664AC919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61D-1BAD-43E0-85E2-A5DF6B7A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068-D5A8-4A2F-8B56-79DDE27E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3C8-133A-48F8-A142-EC3726B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5CB-22D9-42E4-8F5A-35A8CAA2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899-C320-489C-A7B4-45EC8A9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4AE-ADA9-47C7-B434-46E645B1C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19CE-CA6D-4798-921A-BD9EC143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makes a society civilis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58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an understanding of some of the main features of Imperial Chinese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se sources to extract information about Chinese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uss whether China was a civilized society in comparison to the Romans and Anglo Sax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erial Ch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ocus on 221 B.C. till 1279 A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s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pider diagram from page 4 in your books, adding any extra points that you feel are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rough the three sources about China (A-C on page 5) and make a list of points that show China was civilil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s a group compare the three civilizations: which one is the most civilized and why? Be prepared to provide evidence from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8-02-26T06:29:13Z</dcterms:modified>
  <cp:revision>3</cp:revision>
  <dc:subject/>
  <dc:title> What makes a society civilised?</dc:title>
</cp:coreProperties>
</file>